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F51-CF80-4D3A-8ABA-F3B4CD94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62D-A0E3-4F25-A8DC-B915E473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101-F1A2-4A14-81A0-E5B67D36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EA6-A4A7-42AF-A887-4A4BB182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53A8-9001-4482-8731-21BC8E2E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1DB4-965F-4E8D-9AE0-A6DE4AC3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4188-0173-4D55-85ED-03E37DF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CD73-E01E-4436-B68B-23BA53CF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F45E-F5F9-4122-BC3B-5DF72EC1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F20A-475A-4CBB-9492-133859FB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80F8-D70D-46FB-8A44-3FDB611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26D-5E51-4EB2-8319-64F3103F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053-111A-407F-8698-FB109FAB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5ADE-D9D0-4409-95EA-181A5164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AA1C-6833-4264-BC77-D58EEC4D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712B-77B7-4AA2-AAD2-5B7747D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DD31-2897-483A-B2D2-012B5FC0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C60-9FD0-4637-9FF8-8ED37B12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CB9-1968-47A6-92AA-0429A0FC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9D9-EFE6-4B51-A1B5-A03D21C9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3FC-8D55-4CA4-AD0C-09F415F9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B42-12C1-489A-9F20-23AF3AC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F8B-5B7E-45FE-983E-EABC5C2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D7F-B925-4BE4-9E74-B07D5654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3C90-4F91-4A74-9BBB-F5A9D379FBC4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8E4-24FD-41F8-90AB-B943B6E76598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Times New Roman"/>
              </a:rPr>
              <a:t>Ce evaluăm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noştinţe, atitudini, aptitudini, deprinde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ă ştiu, dacă ştiu să facă, dacă ştiu cum să facă sau dacă ştiu cum vor aplica în viaţa reală ceea ce şti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tingerea obiectivelor legate de un anumit conţinu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formanţele celui evalu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ropuse de către profes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iectivele pe care şi le-au propus cei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arcurgerea programei şcolar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rganizarea procesului de învăţ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rviciile pe care le oferă instituţia în care se desfăşoară procesu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zultatele (produsul) sau procesul în sine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11280" y="1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ONALIZAREA SISTEMULUI DE EVAL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500" spc="-1" strike="noStrike">
                <a:solidFill>
                  <a:srgbClr val="330033"/>
                </a:solidFill>
                <a:latin typeface="Times New Roman"/>
              </a:rPr>
              <a:t>De ce evaluăm?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celor evaluaţ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performanţelor instrumente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îmbunătăţirea metodelor, mijloacelor şi strategiilor de evalu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realizarea de selecţi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orectarea performanţe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utocontrolul propriilor capacităţi de pred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identificarea deficienţelor sau disfuncţionalităţilor la nivelul organizării unei unităţi şcol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optimizarea conţinuturi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i foloseşte evaluarea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evaluaţ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valuatorului (profesor, instituţi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ărinţi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actorilor de decizie şcolar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elor care fac un anumit tip de selecţie (angajări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Pe cine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individu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vi luaţi în raport cu grupul din care fac par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grup, o clasă sau un lot de indivizi grupaţi după un criteriu anume, de exemplu o grupă de vârst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eşan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ând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începutul unui proces (evaluarea iniţial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timpul procesului (evaluare continuă sau formativ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 sfârşitul unui proces sau al unei etape (evaluare sumativă sau final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Cum evaluăm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n ce met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tehnici şi procede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 ce instru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onstat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o activitate instructivă s‑a derulat ori a avut loc în condiţii optime, o cunoştinţă a fost asimilată, o deprindere a fost achiziţionat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informar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a societăţi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prin diferite mijloace, privind stadiul şi evoluţia pregătirii populaţiei şcol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dia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cauzelor care au condus la o slabă, sau bună pregătire şi la o eficienţă scăzută a acţiunilor educat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prognostic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nevoilor şi disponibilităţilor viitoare ale elevilor sau ale instituţiilor de învăţămâ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Funcţiile evaluării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continuare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6002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selecţi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sau de decizi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supra poziţiei sau integrării unui elev într‑o ierarhie, într‑o formă sau într‑un nivel al pregătirii s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e certificar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in care se recunoaşte statutul dobândit de către candidat în urma susţinerii unui examen sau a unei evaluări cu caracter normati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edagogic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în perspectiva elevului (motivaţională, stimulativă, de orientare şcolară şi profesională, de întărire a rezultatelor, de formare a unor abilităţi, de conştientizare a posibilităţilor) şi în perspectiva profesorului (pentru a şti ce a făcut şi ce are de realizat în contin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Bibliografi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. Cucoş, Pedagogie, Polirom, Iaşi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. Cristea, Dicţionar de termeni pedagogici, Editura Didactică şi Pedagogică, R.A. - Bucureşti,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42:53Z</dcterms:created>
  <dc:creator>Adi</dc:creator>
  <dc:description/>
  <dc:language>en-US</dc:language>
  <cp:lastModifiedBy>ARDELEAN NORIN</cp:lastModifiedBy>
  <dcterms:modified xsi:type="dcterms:W3CDTF">2010-12-17T02:17:25Z</dcterms:modified>
  <cp:revision>7</cp:revision>
  <dc:subject/>
  <dc:title>Ce evaluăm?</dc:title>
</cp:coreProperties>
</file>